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401292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90720" y="764640"/>
            <a:ext cx="5106960" cy="38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401292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D9F35C-BF1F-4E12-B5C7-868CF4EBC1A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5FE3A8-0DC3-4768-B477-C71EF4290B6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7ED9F3-8E62-4C98-B237-3FEC6370D63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052738-E901-4871-8E7F-CE0D29BCC58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63F58F-8410-4612-9F03-BFC39AC571BD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CCB7DF-9E8F-4ED5-8CF6-9640F57CB500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CFB09B-847D-4468-A6C1-19399D0B6AE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BA5FFC-3BE3-4284-976F-9C76DD4D37B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3394CE-6967-4D03-87D1-9FA4E231A6D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AB2C3F-D1C3-46D2-8F65-8FB3CA69DC7D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021CD8-2E7B-4481-81BE-E7D1D7A15EDE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9D2111-B7D2-4AD8-822C-A4B86BD095A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D01F12-58E0-4F9E-8E1B-62A5786662D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6EDECE-1CF1-41DE-A13E-CBE280A96F0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74E5FF-1769-4816-9AED-1C1B82BA66D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2C9AEC-FDEB-43A8-9DCA-7232BF5EB08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1915-7E11-4A9E-86B2-5CD4E0CD5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602B-E83E-476E-8BE2-3C4743A15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CC0C-3192-4FD2-8E82-2C837BFDF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9EB8-D4BB-4E29-B550-6CCFB96B1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92C6-70F7-4451-9817-3B49EBF001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0F72-A3EC-4F84-AE2E-DCC8D341A2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FEFD-90FE-4B9B-BC8A-30205BDCD1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4AD0-98B5-4D17-B450-0CFF57B1CF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ACE8-B911-4BC8-BDA4-9246B79AE6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79F3-701C-44CD-8007-055A924E65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9B42-58FF-4E2A-B1F8-F5535D15D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4D5F-AEAE-4B0F-8CA0-E1833E694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8F63-BB63-45D5-8FBD-5FC03FB51F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76B41-D552-4D3F-B306-4E58943432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F056-1E78-46B7-B45D-6C431DC8FC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7B3B-138B-4F7A-9387-098DCB1B1C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D8D4-410C-4CE0-AA31-38FED38A9A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7A4-D33D-452B-8EE8-75918AF3A0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26D-532A-4D79-B10E-82005C9255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D1A-98BB-4108-BEE8-39F6C07BB2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C42-434D-4062-BEF6-692575E1FB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9F3-B7BF-48CB-AD62-D23FDEF48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ADA1-A217-45FE-8268-36367088AE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8D0-6E26-4027-B6EC-58E6A43BED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B8A-D7F2-4314-93B8-853DE17198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6DA-C983-4732-ABC5-6C90A0D384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4BE-1E4B-409B-9079-A4F2D04DE9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03C-2F37-4DEE-822D-B8D0B80AB1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766-D416-4244-89A2-76AFDCF07B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468-0E32-4B5F-A164-26EAC72CD9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02370-F9C8-40F0-B809-E7BA1193C5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2C107-7AFA-4B0C-899F-891BECE865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1D89C-A666-47FB-B84B-BEF12464D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065C-E2F9-499B-A8EC-D98F299BEC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7B231-A608-4482-9D4C-88D1B7B724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E5986-E05C-42C1-A92F-D10C1C28D0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BE19B-B243-4A16-9842-1A2D04B11E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22EFF-1782-4654-A0F5-AECF7D91E5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F48B2-65EA-4878-97E8-D588D2C5A4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03F5A-B0E9-49D9-A6FC-0A0047E595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18927-9547-4E38-BE9E-C3E125DEBD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5E7A2-EDD8-4BAC-824A-7DB7719AF3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39FF9-6A1C-4A0B-9F9A-FA938763F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4D84-870B-4DB3-9401-B59271354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ECD3-E316-4488-A46E-14E4204B2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821A-2D3A-4B44-B284-84846ED56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1627-3954-42E8-9925-57982A468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8C69-B39B-46DF-8A73-863D96AE1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F969-3863-4C11-85E8-6337F2EDC773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52A7-BEE3-46A8-92C4-DFD01DB6968F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6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5143-C3B5-4FDB-B34D-B1D47B8F43A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59738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7786-C90F-45B5-A019-6D6C4B323B0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F56C-3135-49DC-9B44-D35EC52773C5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972A-1AA0-48D0-9B90-1A575600749E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112400"/>
            <a:ext cx="738036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年モデル審査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のポイント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077920" y="2728800"/>
            <a:ext cx="5078520" cy="3767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エクセレント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EBD5-09EC-4A9B-AE5A-70861675FF2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038320" y="996840"/>
            <a:ext cx="5181480" cy="386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04840" y="2192400"/>
            <a:ext cx="4224240" cy="315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4681440" y="2187720"/>
            <a:ext cx="4227480" cy="3147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394920" y="24433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281840" y="12985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728840" y="2401920"/>
            <a:ext cx="82368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754440" y="5857920"/>
            <a:ext cx="169056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要素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0840" y="2923920"/>
            <a:ext cx="72961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のポイント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FC16-A66D-4979-A409-2AC7CCEB0B52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振り返り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アンケート結果か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審査結果の公開や、審査結果に関するより多くのフィードバックを希望する声が多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他チームとの相対的な位置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より多くのコメント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モデル審査の内容や基準に対する意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性能モデルが実験レポートに傾倒し過ぎ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技術教育に対する要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もっと初心者向けの内容を増やして欲し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工数の激増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参加チーム、モデル密度がそれぞれ増す中、モデル審査にかかる時間も年々増大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この方法で、より詳細なフィードバックや審査内容の追加は不可能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AA9F-0497-497E-8D13-85891EDE168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全員参加の「いいね！」型モデル審査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の審査結果は参加チームへの一方的な通知表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する側、される側という意識が、みんなで大会を作っていくというロボコンのあり方を希薄化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いまのフィードバックだけでは、審査委員個々の思いやコメントが伝えきれな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「審査委員会」だけでなく、参加チームも審査に参加することで公平感・納得感を高めた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参加チームからの投票を受け付ける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最終評価は、審査委員会の評価と参加チームの投票結果により決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委員それぞれの評価や、一押しモデルも積極的に公開することで審査委員の「顔が見える」審査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まず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のみでの採用を検討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1B4E-4F2B-4830-A526-9121BEAFD01F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リング初心者にフォーカスした教育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これまでの教育資料は、初心者～経験者までを広くカバーすることを目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、実装、プロセスまで及び、すべての習得は困難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とくに、初心者に対するハードルが高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による「うれしさ」よりも「たいへんさ」が先行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年は、スキルアップの前に、まずは「モデリング」の価値を実感してもらうように方向転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ルを「作る」ことは大切だが、まず最初は「使う」のが先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すでに用意された「モデル」をつかって、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ロボコン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Hello world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（＝ライントレース）」を作ることにトライ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</a:rPr>
              <a:t>「モデルを使うとこんなに開発が楽なんだ！」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総合的な教材として、今までの教材の提供も併用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実際の進め方（ツールの活用、時間配分等）は今後検討予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E949-0796-4C97-B383-369C0B9D7DA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もよろしくお願いします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375C-3FB1-4F25-B6DA-39E770F2867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目次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ル審査について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今年のポイン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1503-7902-4F13-A441-5526126AA28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モデル審査について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9206-E9A0-49E5-8F85-906FE27B93D3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モデル審査基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3EC2-32D8-4C76-90BF-68DE30CB7B9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グループ化 16"/>
          <p:cNvGrpSpPr/>
          <p:nvPr/>
        </p:nvGrpSpPr>
        <p:grpSpPr>
          <a:xfrm>
            <a:off x="204840" y="1608120"/>
            <a:ext cx="4189320" cy="1623960"/>
            <a:chOff x="204840" y="1608120"/>
            <a:chExt cx="4189320" cy="1623960"/>
          </a:xfrm>
        </p:grpSpPr>
        <p:pic>
          <p:nvPicPr>
            <p:cNvPr id="187" name="コンテンツ プレースホルダ 17" descr=""/>
            <p:cNvPicPr/>
            <p:nvPr/>
          </p:nvPicPr>
          <p:blipFill>
            <a:blip r:embed="rId1"/>
            <a:stretch/>
          </p:blipFill>
          <p:spPr>
            <a:xfrm>
              <a:off x="347400" y="1608120"/>
              <a:ext cx="398088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角丸四角形 7"/>
            <p:cNvSpPr/>
            <p:nvPr/>
          </p:nvSpPr>
          <p:spPr>
            <a:xfrm>
              <a:off x="204840" y="1636920"/>
              <a:ext cx="4189320" cy="1544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18"/>
          <p:cNvGrpSpPr/>
          <p:nvPr/>
        </p:nvGrpSpPr>
        <p:grpSpPr>
          <a:xfrm>
            <a:off x="193680" y="3429000"/>
            <a:ext cx="4159080" cy="1849320"/>
            <a:chOff x="193680" y="3429000"/>
            <a:chExt cx="4159080" cy="1849320"/>
          </a:xfrm>
        </p:grpSpPr>
        <p:pic>
          <p:nvPicPr>
            <p:cNvPr id="190" name="コンテンツ プレースホルダ 17" descr=""/>
            <p:cNvPicPr/>
            <p:nvPr/>
          </p:nvPicPr>
          <p:blipFill>
            <a:blip r:embed="rId2"/>
            <a:stretch/>
          </p:blipFill>
          <p:spPr>
            <a:xfrm>
              <a:off x="383760" y="3431880"/>
              <a:ext cx="391968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角丸四角形 8"/>
            <p:cNvSpPr/>
            <p:nvPr/>
          </p:nvSpPr>
          <p:spPr>
            <a:xfrm>
              <a:off x="193680" y="3429000"/>
              <a:ext cx="4159080" cy="181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グループ化 17"/>
          <p:cNvGrpSpPr/>
          <p:nvPr/>
        </p:nvGrpSpPr>
        <p:grpSpPr>
          <a:xfrm>
            <a:off x="4535640" y="1596960"/>
            <a:ext cx="4376520" cy="4818240"/>
            <a:chOff x="4535640" y="1596960"/>
            <a:chExt cx="4376520" cy="4818240"/>
          </a:xfrm>
        </p:grpSpPr>
        <p:pic>
          <p:nvPicPr>
            <p:cNvPr id="193" name="コンテンツ プレースホルダ 17" descr=""/>
            <p:cNvPicPr/>
            <p:nvPr/>
          </p:nvPicPr>
          <p:blipFill>
            <a:blip r:embed="rId3"/>
            <a:stretch/>
          </p:blipFill>
          <p:spPr>
            <a:xfrm>
              <a:off x="4535640" y="1901880"/>
              <a:ext cx="41882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角丸四角形 9"/>
            <p:cNvSpPr/>
            <p:nvPr/>
          </p:nvSpPr>
          <p:spPr>
            <a:xfrm>
              <a:off x="4547520" y="1596960"/>
              <a:ext cx="4364640" cy="4818240"/>
            </a:xfrm>
            <a:custGeom>
              <a:avLst/>
              <a:gdLst>
                <a:gd name="textAreaLeft" fmla="*/ 212760 w 4364640"/>
                <a:gd name="textAreaRight" fmla="*/ 4151880 w 4364640"/>
                <a:gd name="textAreaTop" fmla="*/ 212760 h 4818240"/>
                <a:gd name="textAreaBottom" fmla="*/ 4605480 h 4818240"/>
              </a:gdLst>
              <a:ahLst/>
              <a:rect l="textAreaLeft" t="textAreaTop" r="textAreaRight" b="textAreaBottom"/>
              <a:pathLst>
                <a:path w="21600" h="23845">
                  <a:moveTo>
                    <a:pt x="3600" y="0"/>
                  </a:moveTo>
                  <a:arcTo wR="3600" hR="3600" stAng="16200000" swAng="-5400000"/>
                  <a:lnTo>
                    <a:pt x="0" y="20245"/>
                  </a:lnTo>
                  <a:arcTo wR="3600" hR="3600" stAng="10800000" swAng="-5400000"/>
                  <a:lnTo>
                    <a:pt x="18000" y="238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グループ化 19"/>
          <p:cNvGrpSpPr/>
          <p:nvPr/>
        </p:nvGrpSpPr>
        <p:grpSpPr>
          <a:xfrm>
            <a:off x="219240" y="4538520"/>
            <a:ext cx="4160520" cy="1847880"/>
            <a:chOff x="219240" y="4538520"/>
            <a:chExt cx="4160520" cy="1847880"/>
          </a:xfrm>
        </p:grpSpPr>
        <p:sp>
          <p:nvSpPr>
            <p:cNvPr id="196" name="角丸四角形 10"/>
            <p:cNvSpPr/>
            <p:nvPr/>
          </p:nvSpPr>
          <p:spPr>
            <a:xfrm>
              <a:off x="219240" y="5539320"/>
              <a:ext cx="4160520" cy="800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コンテンツ プレースホルダ 17" descr=""/>
            <p:cNvPicPr/>
            <p:nvPr/>
          </p:nvPicPr>
          <p:blipFill>
            <a:blip r:embed="rId4"/>
            <a:stretch/>
          </p:blipFill>
          <p:spPr>
            <a:xfrm>
              <a:off x="365760" y="4538520"/>
              <a:ext cx="3864600" cy="18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テキスト ボックス 12"/>
          <p:cNvSpPr/>
          <p:nvPr/>
        </p:nvSpPr>
        <p:spPr>
          <a:xfrm>
            <a:off x="589320" y="345600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製品やソフトウェ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求められるもの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何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3"/>
          <p:cNvSpPr/>
          <p:nvPr/>
        </p:nvSpPr>
        <p:spPr>
          <a:xfrm>
            <a:off x="5601240" y="1830240"/>
            <a:ext cx="210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要求を実現するために必要な動作内容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それを実現するための仕組み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複雑にならない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4"/>
          <p:cNvSpPr/>
          <p:nvPr/>
        </p:nvSpPr>
        <p:spPr>
          <a:xfrm>
            <a:off x="6535080" y="460368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性能向上に必要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技術や戦略が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15"/>
          <p:cNvSpPr/>
          <p:nvPr/>
        </p:nvSpPr>
        <p:spPr>
          <a:xfrm>
            <a:off x="7067880" y="58212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各モデルの内容が、相互に確認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追跡可能で一貫性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コンテンツ プレースホルダ 2"/>
          <p:cNvSpPr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大きく、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カテゴリから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0"/>
          <p:cNvSpPr/>
          <p:nvPr/>
        </p:nvSpPr>
        <p:spPr>
          <a:xfrm>
            <a:off x="825840" y="2606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わかりやす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書け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21"/>
          <p:cNvSpPr/>
          <p:nvPr/>
        </p:nvSpPr>
        <p:spPr>
          <a:xfrm>
            <a:off x="2754720" y="5581800"/>
            <a:ext cx="15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新しい試みや日常の開発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出来ないことへのチャレン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モデル審査の方法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基準の各項目を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レベルで評価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各項目の評価レベルを点数化し、さらに重みを加味して、最終評価点を算出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評価点に応じて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　までの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段階のレベルを付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3545-98A7-491F-94D9-3A7EC4351A4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各チームへのフィードバック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設計面と性能面に分けて、「良かった点」「気になった点」をそれぞれコメントとして記述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72B8-7DC5-4661-92C9-D0BC7F5DEEC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870120" y="2036880"/>
            <a:ext cx="77198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のモデル審査結果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C193-A50E-453E-8574-5B1314AB62D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941400"/>
            <a:ext cx="5861160" cy="352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11520" y="3370320"/>
            <a:ext cx="5427720" cy="3112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6051600" y="2395440"/>
            <a:ext cx="8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7"/>
          <p:cNvSpPr/>
          <p:nvPr/>
        </p:nvSpPr>
        <p:spPr>
          <a:xfrm>
            <a:off x="5247720" y="154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ほぼすべてに渡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程度高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追加課題については、大きな差が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8"/>
          <p:cNvSpPr/>
          <p:nvPr/>
        </p:nvSpPr>
        <p:spPr>
          <a:xfrm>
            <a:off x="1819440" y="510696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参加チームが多く、開催回数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多い地区ほど評価が高い傾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こ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0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間のモデル進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42D4-BB6B-471D-800F-D8E3C33C65F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4" descr="modelcocept.jpg"/>
          <p:cNvPicPr/>
          <p:nvPr/>
        </p:nvPicPr>
        <p:blipFill>
          <a:blip r:embed="rId1"/>
          <a:stretch/>
        </p:blipFill>
        <p:spPr>
          <a:xfrm>
            <a:off x="168120" y="955800"/>
            <a:ext cx="8620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04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優勝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3211-B3CC-48F7-A0BD-8686C113ECF2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660760" y="1332000"/>
            <a:ext cx="3944880" cy="31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22400" y="3514680"/>
            <a:ext cx="4244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226" name="グループ化 6"/>
          <p:cNvGrpSpPr/>
          <p:nvPr/>
        </p:nvGrpSpPr>
        <p:grpSpPr>
          <a:xfrm>
            <a:off x="4494240" y="3603600"/>
            <a:ext cx="4425840" cy="2577960"/>
            <a:chOff x="4494240" y="3603600"/>
            <a:chExt cx="4425840" cy="2577960"/>
          </a:xfrm>
        </p:grpSpPr>
        <p:pic>
          <p:nvPicPr>
            <p:cNvPr id="227" name="Picture 4" descr=""/>
            <p:cNvPicPr/>
            <p:nvPr/>
          </p:nvPicPr>
          <p:blipFill>
            <a:blip r:embed="rId3"/>
            <a:stretch/>
          </p:blipFill>
          <p:spPr>
            <a:xfrm>
              <a:off x="4494240" y="3603600"/>
              <a:ext cx="24984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7156440" y="3891600"/>
              <a:ext cx="1763640" cy="21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8"/>
          <p:cNvSpPr/>
          <p:nvPr/>
        </p:nvSpPr>
        <p:spPr>
          <a:xfrm>
            <a:off x="626760" y="387684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281840" y="169380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6680" y="3479760"/>
            <a:ext cx="82368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dcterms:modified xsi:type="dcterms:W3CDTF">2012-02-17T09:49:45Z</dcterms:modified>
  <cp:revision>414</cp:revision>
  <dc:subject/>
  <dc:title>ETロボコン公式教材 （その１） モデルの描き方トレーニング</dc:title>
</cp:coreProperties>
</file>